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CCB-4458-429A-816E-A6D7D3E6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A9B-0246-4770-BA9D-DC77A3C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ECF-8DC5-4360-8D56-3FC8C582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B51-7455-4C7D-85EC-B565ED55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664-0FDD-4A0A-AFE4-B65BD59D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9EF-B497-44C1-9B4D-0CA89DEE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A22-8D2B-4F56-9EB6-F1245A25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4F5-C13E-403E-BA3B-22FE8EF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78F-BBD5-4805-8F27-F8B6DBE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655-15B0-4087-9C03-C58D325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8EC-6DF2-4859-B3DB-7F84FEB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A41-1A66-4E1F-8CE0-E75F560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D99F-08E0-49E8-B148-DC08179B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Évangé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organ (Guilla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es paroles des chansons qui me font sentir beaucoups des émot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905120"/>
            <a:ext cx="32004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Να είσαι εκεί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Πάντα μέσα στη ζωή μου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Τα φώτα της ν' ανάβεις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Κι ας μην τη ζεις μαζί μου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ν λίγο μ' αγαπάς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Να είσαι εκεί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γάπη της ζωής μου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γάπη δυνατ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Μιχάλης Χατζιγιαννη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9051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or asegurar la sonrisa de tu al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buscando equ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o podría empeñar los más caro que teng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que es mi 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ría un honor, ay amor, ser tu escl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ría tu juguete por mi volun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si un día glorioso en tus brazos acab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¡qué felicida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Joan Sebas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ette chanson, c’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m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éri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é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876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 j’étais chanteur, je voudrais chanter une chanson comme ça, bien qu’il ne soit pas fa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Qu’est-ce qu’a pass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 Anglais ont envoyé les francais d’Acadie aux autres parts du m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Évangéline cherchait Gabriel a travers des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Qui est Évangé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Protagon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heroïne de beaucoup des gens en Québec, Acadie et Louis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St. Martinville, LA : Longfellow's Evangeline, St. Martinsville LA"/>
          <p:cNvPicPr/>
          <p:nvPr/>
        </p:nvPicPr>
        <p:blipFill>
          <a:blip r:embed="rId2"/>
          <a:stretch/>
        </p:blipFill>
        <p:spPr>
          <a:xfrm>
            <a:off x="1143000" y="457200"/>
            <a:ext cx="6950160" cy="52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6019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statue d’Évangéline en Saint Martinville, Louisi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us Nous Souve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0574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1932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Il existe encore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s gens qui vivent dans ton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qui de ton nom se souvien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Car l’océan parle de t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vents du sud portent ta v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la forêt jusqu’à la pl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on nom c’est plus que l’Ac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lus que l’espoir d’une pa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on nom dépasse les front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on nom, c’est le nom de tous c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Qui, malgré qu’ils soient malheur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Croient en l’amour et qui espèrent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our quoi nous nous souvenons notre his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’est une partie de 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’est important pour comprendre notres ancê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 tu ne sais pas ta histoire, tu dois l’apprend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Qu’est-ce que nous enseigne ce con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l faut que le gens se souvienne sa histoire et l’histoire de son pe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is-tu que l’histoire so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es bonnes chan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is-tu que les bonnes chansons soient simples ou qu’elles aient un sens plus gr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l vaut mieux que les chansons nous fassent sentir des émo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7:30:44Z</dcterms:created>
  <dc:creator>ric bacon</dc:creator>
  <dc:description/>
  <dc:language>en-US</dc:language>
  <cp:lastModifiedBy>Toni Theisen</cp:lastModifiedBy>
  <dcterms:modified xsi:type="dcterms:W3CDTF">2007-02-10T16:39:21Z</dcterms:modified>
  <cp:revision>12</cp:revision>
  <dc:subject/>
  <dc:title>Slide 1</dc:title>
</cp:coreProperties>
</file>